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.wmf" ContentType="image/x-wmf"/>
  <Override PartName="/ppt/media/image27.png" ContentType="image/png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101-30ED-494A-9F8A-4CF8B874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6C3-47DC-4EEC-B895-B3EFE4F8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C4B-F130-4EE3-84C8-882467D4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D9A-B480-4120-B8C4-14318AED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DB7-579B-4CFB-8232-66F41C24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E99-570F-4E3D-8B15-073ECA2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C25-DF3A-4487-8274-FC87AEA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CAE-BB77-40AA-81BC-542E18B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9B0-106A-457F-9506-0706E78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091-2EE7-45A5-8023-CE619A3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04F-4411-4820-850E-7050169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635-EBCB-431A-905A-D2A3224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E85C-C554-4BF0-91F9-B3BF53A4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3399"/>
                </a:solidFill>
                <a:latin typeface="Arial"/>
              </a:rPr>
              <a:t>Інформаційні технології управління навчальним навантаженням у вищих навчальних закладах</a:t>
            </a:r>
            <a:br>
              <a:rPr sz="4800"/>
            </a:br>
            <a:br>
              <a:rPr sz="48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иценко Валерій Григ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040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Відображ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Відображ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форм державної атест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2349360"/>
          <a:ext cx="79358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9358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форм державної атеста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1217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2072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3760" y="1268280"/>
            <a:ext cx="8850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8520" y="1341360"/>
            <a:ext cx="9015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Модель формування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обочого навчального пл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89240"/>
          <a:ext cx="822960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9240"/>
                    <a:ext cx="82296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Модель формування навчального пл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52400" y="1600200"/>
          <a:ext cx="7639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600200"/>
                    <a:ext cx="763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едагування континге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Відображення континген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Модель розподілу навчального навантаження між кафедрами та викладач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92360" y="1989000"/>
          <a:ext cx="571644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7164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едагування розподілу навантаження між кафе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едагування розподілу навантаження між викладач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295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90920" y="4013280"/>
            <a:ext cx="65530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бочого 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3440" y="1844640"/>
            <a:ext cx="8980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бочого навчального пл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2520" y="2205000"/>
            <a:ext cx="896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зподілу ставок між кафе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487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DF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кументу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зподілу навчального навантаження між кафед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едагування анкети співробітників з наданням прав доступ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81010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Етапи формування навчального пл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загол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графіка навчаль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ворення банку форм державної атес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загол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4320"/>
          <a:ext cx="8229600" cy="37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4320"/>
                    <a:ext cx="8229600" cy="37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заголов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графіка навчального проц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2612880"/>
          <a:ext cx="8229600" cy="25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2296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графіка навчального проц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едагування графіка навчального проц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92360" y="1460520"/>
            <a:ext cx="5616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творення банку дисципл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941480"/>
          <a:ext cx="822960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41480"/>
                    <a:ext cx="82296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27:40Z</dcterms:created>
  <dc:creator>User</dc:creator>
  <dc:description/>
  <dc:language>en-US</dc:language>
  <cp:lastModifiedBy>User</cp:lastModifiedBy>
  <dcterms:modified xsi:type="dcterms:W3CDTF">2009-10-29T10:07:17Z</dcterms:modified>
  <cp:revision>10</cp:revision>
  <dc:subject/>
  <dc:title>Інформаційні технології управління навчальним навантаженням у вищих навчальних закладах  Гриценко Валерій Григорович</dc:title>
</cp:coreProperties>
</file>